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52F-7075-452C-99FF-0CF08755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517-1669-4A77-9FA1-92D59261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403-9BDD-4722-B7B4-93BB96ED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B62-2A3C-47FB-8E10-E6ADFDFC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3497-C111-41B9-9812-3D215AE8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7A52B-5C7E-4B6D-A99C-EC2B38A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D7956-4ACF-4618-97B2-84E1C63E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4A732-339C-4494-A503-DCDBBB1E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49F5E-DE80-45D2-961E-7761FBE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5C805-5997-4BB8-9CAA-8F6953C4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0B54-D798-4003-925E-61AFC85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FAC-0E9E-4E20-B988-7BCF6B6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644B-62AE-4D55-A39F-9C24FF5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219F1-C669-42C7-B38F-115C812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68B3D-ED6D-49F5-BF47-E17F434D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DDD0D-7156-43AA-88EC-1E0B7AC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5205-3CB4-455E-BEE5-BC853BD4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5612-2463-4BDB-8AB4-83CA87B9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3BB1-070D-4E97-B9E5-5F95499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6D2D-4B3F-4390-8D19-F4846CD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DD3D-C38D-4963-8485-78C01F1D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175A-8EE6-4790-9F7A-C4DD2C7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552-CBF4-46E0-BDE0-882C9F07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B0A1-D6DE-4CA0-83B2-8230AD7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78D5-C7C0-46B2-BA02-C88379F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8567-FF20-4129-97E2-CAEE987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48DE-4360-48E3-B7B3-F5B9B115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C68B-B2F3-44EB-AEC4-DE8B28B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3147-D1D0-4F92-86F4-DFCE4D26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4D34-A8A3-48F9-91B4-A4687B60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BC33B-897C-4505-B119-52D130D5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7186D-1A76-4E7B-90CA-A6374CBA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BEF08-65D7-47E4-8818-3AE0506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CFF-C75E-4630-B309-EDE8F03E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5CC92-3781-43DC-8841-3432797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F4C88-99BF-4889-9F4D-E6C1DB4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A2BB2-9217-4368-A909-12D3587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CAE4C-0403-4AAC-AF72-106CDCB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D63F2-B1A2-4899-A1DF-A0D27F5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42384-9B6D-4AA7-B528-69B6BEE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AD889-0FC7-41A7-AED8-A0397CB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75BA1-4E3C-4F71-976C-EA64D19D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6C74C-F7F9-44B1-9F79-5879329C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A25C4-2D89-4B78-9F92-22A6433E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F27-A7AE-426D-BBE2-9CE7ED6E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EF131-75EB-45E9-916D-CD1903F7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73668-C793-4363-8E58-C5C4C50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DC271-F31A-49CB-AB8C-1C46E49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70DB1-8268-41CA-AEF7-D101F33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D57F3-BC3F-41E5-B843-B19C80B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CD812-4F2D-4C3C-A696-627290E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DD0A3-D3D5-4610-AA18-012761A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10E3A-397D-497C-8463-D1C4345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12DAF-6510-42BE-976F-74FAD3D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53E02-864D-43F8-ACD5-4D5E6B65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99A-843F-4862-AC39-B63B2F2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C5112-B18D-4256-B03E-E4CDB47F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880DA-611C-41B8-8C35-F10EF0EA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C2844-5DAB-4FD8-9E7D-6D9F5CD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68617-EA21-44F5-B72F-78DDCB44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0014D-EA0C-4703-A1ED-606FC1A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8DBF0-3767-479C-956C-67FF8AC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54DA8-61DC-4043-A541-CC438D2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F66D4-C78C-48E4-A463-2A804EE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1B3F2-58BA-46AC-BA6A-AB9ACF21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87740-1EFD-4C60-969D-586C9D4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12D-A3C7-49F3-A75F-B0C88AF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0DCA6-AEE8-407B-927C-1B41B3D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AFF1E-4CF2-46EB-BB0C-30D04320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8C5A5-AE0F-4115-B228-7CFDDCB9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6D7-0C4E-4F5E-89CC-03EB520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132-6857-497B-8D2B-20C478F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C78-D271-4334-9BD8-427A0AFBE34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35A1-2FAA-4F7F-A75F-453120DB43E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58FB-CE33-4E09-A50D-379FE0ECB92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4195-E3B4-4497-AA42-C91FBE3EF7C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A162-572C-46D2-B298-98887A98330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DEBC-0B42-4F26-9B9C-4CE12787199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Presented by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Madid, Shahri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Open, Leah Ma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Steps in Herbarium Prepar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. Selection of botanical specime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. Collection and preserv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. Pressing the specime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. Drying the specimen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. Identific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. Recordin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4" descr=""/>
          <p:cNvPicPr/>
          <p:nvPr/>
        </p:nvPicPr>
        <p:blipFill>
          <a:blip r:embed="rId2"/>
          <a:stretch/>
        </p:blipFill>
        <p:spPr>
          <a:xfrm>
            <a:off x="669960" y="22860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3733920" cy="45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4"/>
          <a:stretch/>
        </p:blipFill>
        <p:spPr>
          <a:xfrm>
            <a:off x="4697280" y="1546200"/>
            <a:ext cx="3760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Steps in Animal Preserv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. Selection of Animal to be preserve.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. Collection and preserv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. Wash the specim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. Preserve the specimen by injecting or   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submerging it with formaldehyd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. Identific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. Recordin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2:45:16Z</dcterms:created>
  <dc:creator>Student</dc:creator>
  <dc:description/>
  <dc:language>en-US</dc:language>
  <cp:lastModifiedBy>CISO</cp:lastModifiedBy>
  <dcterms:modified xsi:type="dcterms:W3CDTF">2010-09-20T23:10:59Z</dcterms:modified>
  <cp:revision>7</cp:revision>
  <dc:subject/>
  <dc:title>Sample Unit Project Let’s Classify</dc:title>
</cp:coreProperties>
</file>